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1A5A-22C0-482B-A6A8-426B12CC2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 narrowly focused, high leverage areas, 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- use of both summative and formative measures, qualitative and quantitativ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- a manageable stretch from present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s to inspire rather than discou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- goals describe the outcome or the result of the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- sets a timeframe for accompl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- Goal Sor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-chart to categorize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D0479-2C21-4613-B1C0-2DBE8CA1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DDBC5-3663-4005-AF57-A71C1AE8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E5FE1-7E40-49A6-B0F5-DBB9BDDD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0AF7F-1E24-4A16-8A15-A1419A76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0074-E981-49C9-9F66-684D1DC3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FE6A-9E46-499D-959C-0D7CC728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F349-D0FB-475C-B8EF-322F1170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684D-913D-409D-9034-AEEC3E3E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A963-86D7-4210-8324-F69106CF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4E00-70CD-4B01-A6D5-8622766B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3638-BF41-4D6C-86FC-310A5AAE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42B22-6B15-4863-BB67-31210C30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ECA6-FFFA-44B5-BC5B-1DE93456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DE14-BCE7-49E1-AB20-B8CA469C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CCE6-D670-474C-A12A-3FE6EB44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CAD3-DF1A-43B0-9D90-63E75843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A406-DFEA-400B-ADFB-9315C551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F4388-C57D-4262-BE4D-71AF49B9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08BE1-DC39-4409-9479-1DB71A6F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0B143-7D0C-40EB-A914-58937D38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1733F-0BDC-4C7F-A3C8-9BAC3F18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8C6DB-3BBE-4749-B3C5-F6FBCF5A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537CA-F4FB-41A9-A692-2CED28FF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5EE10-E225-4AA9-B772-AF2EB8E6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3993-DFCD-46C7-AF43-D8EF0FE339A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EFFA-AA08-4186-98FA-DF452640002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SMART GOAL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Related to APP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57200" y="1752480"/>
          <a:ext cx="8218440" cy="452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21844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MART Learning Wheel</a:t>
            </a:r>
            <a:br>
              <a:rPr sz="4200"/>
            </a:br>
            <a:r>
              <a:rPr b="0" lang="en-US" sz="1900" spc="-1" strike="noStrike">
                <a:solidFill>
                  <a:srgbClr val="ffffcc"/>
                </a:solidFill>
                <a:latin typeface="Tahoma"/>
              </a:rPr>
              <a:t>-2007 McCay Consulting, LLC</a:t>
            </a:r>
            <a:endParaRPr b="0" lang="en-US" sz="1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2096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Adjust strategy, use what worked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Study the results, compare new data to baseline dat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477120" y="2134800"/>
            <a:ext cx="220968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Gather baseline data, establish SMART Goal, develop a plan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mplement the plan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32767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41911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41911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32767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4343040" y="3733920"/>
            <a:ext cx="685800" cy="533160"/>
          </a:xfrm>
          <a:custGeom>
            <a:avLst/>
            <a:gdLst>
              <a:gd name="textAreaLeft" fmla="*/ 0 w 685800"/>
              <a:gd name="textAreaRight" fmla="*/ 686160 w 6858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4114800" y="3733560"/>
            <a:ext cx="685800" cy="533160"/>
          </a:xfrm>
          <a:custGeom>
            <a:avLst/>
            <a:gdLst>
              <a:gd name="textAreaLeft" fmla="*/ 0 w 685800"/>
              <a:gd name="textAreaRight" fmla="*/ 686160 w 6858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aking Building Goals Smar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ove Test Sc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ove Stud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 Parental Involvement and Sup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est Scor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f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ain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181480" y="23796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tudent Behavio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f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ain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778280" y="1676520"/>
            <a:ext cx="3438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arental Suppor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f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ain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05320" y="2198520"/>
            <a:ext cx="27241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ome Idea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Your SMART Goa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 a few minutes to establish a SMART go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ated to Student Achie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Steps in a Successful APP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eam Meeting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 a SMART Goal for your Te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MART GOA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empus Sans ITC"/>
              </a:rPr>
              <a:t>There is absolutely no research correlation between success and family background, race, national origin, financial status, or even educational accomplishments.  There is but one correlation with success, and that is </a:t>
            </a:r>
            <a:r>
              <a:rPr b="1" lang="en-US" sz="4100" spc="-1" strike="noStrike">
                <a:solidFill>
                  <a:srgbClr val="ff0000"/>
                </a:solidFill>
                <a:latin typeface="Tempus Sans ITC"/>
              </a:rPr>
              <a:t>ATTITUDE</a:t>
            </a: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-Harry Wo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Using Goals for Resul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Specific and Strategi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Measurab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Attainab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Results-Orient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Time bou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6324480"/>
            <a:ext cx="88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nzemius, A. &amp; O’Neill, J. (2001)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Building shared responsibility for student learnin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 Alexandra, VA: ASC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SMART Goals for Professional Learning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trict Level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hallenge, inspire, strategic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r-reaching goals (5 year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chool Level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ioritize, targe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as on needs of specific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s (1-3 year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eacher Level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cus 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fic skills and knowledg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annu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2006 McKay Consulting, LLC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981080"/>
            <a:ext cx="2133720" cy="3429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807732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Developing Goal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bf25a"/>
                </a:solidFill>
                <a:latin typeface="Tahoma"/>
              </a:rPr>
              <a:t>When we establish clear learning goals, the effect on student achievement can be as much as a </a:t>
            </a:r>
            <a:r>
              <a:rPr b="0" i="1" lang="en-US" sz="3200" spc="-1" strike="noStrike" u="sng">
                <a:solidFill>
                  <a:srgbClr val="ebf25a"/>
                </a:solidFill>
                <a:uFillTx/>
                <a:latin typeface="Tahoma"/>
              </a:rPr>
              <a:t>41 percentile gain</a:t>
            </a:r>
            <a:r>
              <a:rPr b="0" i="1" lang="en-US" sz="3200" spc="-1" strike="noStrike">
                <a:solidFill>
                  <a:srgbClr val="ebf25a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96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91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rzano, R. (2003).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What works in school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Alexandra, VA: ASC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96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291960" indent="-29196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ed on results not just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Tahoma"/>
              </a:rPr>
              <a:t>A Framework for Shared Goal Setting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64240" y="1685520"/>
            <a:ext cx="392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Jester"/>
              </a:rPr>
              <a:t>Focus:</a:t>
            </a:r>
            <a:r>
              <a:rPr b="0" lang="en-US" sz="2500" spc="-1" strike="noStrike">
                <a:solidFill>
                  <a:srgbClr val="ffffff"/>
                </a:solidFill>
                <a:latin typeface="Jester"/>
              </a:rPr>
              <a:t> create shared clarity of thought, direction, and purpos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Jester"/>
              </a:rPr>
              <a:t>Reflection:</a:t>
            </a:r>
            <a:r>
              <a:rPr b="0" lang="en-US" sz="2500" spc="-1" strike="noStrike">
                <a:solidFill>
                  <a:srgbClr val="ffffff"/>
                </a:solidFill>
                <a:latin typeface="Jester"/>
              </a:rPr>
              <a:t> learn from the past and identify ways of accomplishing goal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Jester"/>
              </a:rPr>
              <a:t>Collaboration:</a:t>
            </a:r>
            <a:r>
              <a:rPr b="0" lang="en-US" sz="2500" spc="-1" strike="noStrike">
                <a:solidFill>
                  <a:srgbClr val="ffffff"/>
                </a:solidFill>
                <a:latin typeface="Jester"/>
              </a:rPr>
              <a:t> come together to share knowledge and idea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Jester"/>
              </a:rPr>
              <a:t>-Conzemius &amp; O’Neil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2590920"/>
            <a:ext cx="3657600" cy="2590560"/>
          </a:xfrm>
          <a:prstGeom prst="triangle">
            <a:avLst>
              <a:gd name="adj" fmla="val 50000"/>
            </a:avLst>
          </a:prstGeom>
          <a:solidFill>
            <a:srgbClr val="602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257800"/>
            <a:ext cx="2743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Jester"/>
              </a:rPr>
              <a:t>COLLABO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Jester"/>
              </a:rPr>
              <a:t>How will we get the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1828800"/>
            <a:ext cx="3200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Jester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Jester"/>
              </a:rPr>
              <a:t>Where do we want to b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52578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Jester"/>
              </a:rPr>
              <a:t>REFL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25a"/>
                </a:solidFill>
                <a:latin typeface="Jester"/>
              </a:rPr>
              <a:t>Where are we now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Are you process oriented or results oriented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s Goal (what is it I want to do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Raise student achievement in E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s Goal (where do I want to be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Increase performance of special education students on the NYS ELA test by 5% in two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Process Goals and Results Goa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cess Focuses on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Mean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Input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Capacity improvement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System intervention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Improvement activitie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Function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cess Key Word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Develop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Implement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Attend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Design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Writ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Creat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To “do”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xamp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Implement a reward system for behavior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374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Develop a school-wide writing rubric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Results Focus on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nd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ductivit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utcom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mprovement targe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Result Key Word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crease my ability to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crease my use of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crease my knowledge of 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Exampl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mprove my ability to improve student behavi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mprove staff’s ability to improve student writ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6340320"/>
            <a:ext cx="86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Conzemius, A. &amp; O’Neill, J. (2001). </a:t>
            </a:r>
            <a:r>
              <a:rPr b="0" i="1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Building shared responsibility for student learning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. Alexandra, VA: ASC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Developing SMART Professional Learning Goal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your SMART learning goal? What are you seeking to impro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your rationale for selecting this goal? What is the impact or result of this goal on student learn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tifacts or tools will you use to measure the progress of your goa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2006 McKay Consulting, LL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3:32:58Z</dcterms:created>
  <dc:creator>North Rockland Schools</dc:creator>
  <dc:description/>
  <dc:language>en-US</dc:language>
  <cp:lastModifiedBy>North Rockland Schools</cp:lastModifiedBy>
  <dcterms:modified xsi:type="dcterms:W3CDTF">2008-09-05T13:33:36Z</dcterms:modified>
  <cp:revision>1</cp:revision>
  <dc:subject/>
  <dc:title>SMART GOALS</dc:title>
</cp:coreProperties>
</file>